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</p:sldIdLst>
  <p:sldSz cx="9144000" cy="6858000"/>
  <p:notesSz cx="6858000" cy="91011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0FEF-FF3B-4AA0-BD6B-4866FA425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A59F-6211-4C92-9F76-DB0D9C92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77CC-2B04-4DC2-85E4-4F431AB0A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2D81-B580-44AE-8E17-84F7C17B5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BD85F-E139-49F0-BAF1-5CD4F871E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26F1-CFD5-4488-B020-5F422096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850E-3E67-40B4-85A6-31021C8A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F7C2-67AA-498B-9FE4-6262B87B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BD57-B17E-4E0E-B793-70D88522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7520-87EA-4B84-BAA0-49C61290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10F22-7C59-4558-BF68-65D6094B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EEF5-CC2E-40FB-9A33-ABC4CC60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25606-4FD6-45E3-A853-E56ABA8B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AF88-820C-47A6-92E9-71609692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87C2-1BEB-4A5A-A945-A4580B5C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282A-B33A-4B0A-AD49-26EC1D45B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DB594-0B21-4AD5-97FC-4CAB2E150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A5468-2329-49BC-B31C-D25510EAE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BCE8C-32FE-4F1F-89D8-C50F908E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B5ADA-7061-41DB-8C44-9599100D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D5A5F-93DC-4786-9311-D22174A5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151A8-E968-46FA-BB81-4C441CA7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D87F-0ED0-435A-BB8E-0954DD14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EFF0B-B8FF-4D99-B53F-30C7F9C5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185EF-454C-4AE2-A830-C026C963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BAE30-7C5F-4F61-9F60-60A799CA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5716C-2E3E-46DE-BE5F-D6AA17A1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D1F47-17B2-4117-95C9-45AA0229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FB663-10BD-4828-9114-9137D7F52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A6BE6-E896-4BD9-BC4D-FC34718AC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00CE4-7FBB-427B-8DD9-44F83F02B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FA2E6-43E6-46A7-A8E8-02C45CFC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310B0-94BD-4C1B-9054-6F3CD7C3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03F0-02C1-40B7-A2B2-F196DF97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BE97D-97F6-4175-B008-FF49E208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2734A-7DB3-42D3-B70B-E4364C40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C43F8-EA75-4FCE-8FEE-C13D11B3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2A2D1-7302-427B-AF36-6AA6AB1A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B89DF-3BA3-4F3E-A65C-0872960C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42796-3AE2-4E20-A7A4-2867F929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CCC36-7189-43BA-B6F7-152F2CAF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ED3F4-23D6-4DD8-B450-D652B4083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A3817-B4BB-4602-8FDA-8A6A527D9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D66EA-3663-48F4-BA6C-025AA842F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686D-A8DA-4279-8CB2-81D8B2E9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B33B6-01D1-4936-B1AE-6557A7D9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CBE21-1D88-421D-B881-11B9CC73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EDB46-6239-4F1D-84FE-6D6B4F33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9E2EA-9383-4383-89DD-9D0B7CF5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FCE41-825D-4C53-9555-D24518ED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B9E51-ABDC-474D-8E8E-A00C0CFD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53BD2-E500-458A-B311-1373F8D5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EB350-9AFF-44C2-A7A4-BCE6C19A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6BF6F-0122-42E0-A342-03217E9E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323C1-EDBA-46BB-B06B-FFF70224F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46B7-7FE3-4B58-9965-D3E6D93D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CCDA1-BE50-45B0-9F10-642A11FFD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90DDE-E81A-489F-B57E-E33E30188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64477-57F9-4032-8491-2C5CDE66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1D74C-1037-4CC6-9946-1B46EB8E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35838-9977-42DD-ADCB-68F1EE34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60741-B693-4681-8A84-F8D2CF53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3C9FD-FFF6-4D2D-B493-A591F4DA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716B4-C2D5-48DA-A1D4-B42F1AF1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1F0CB-9DDB-487B-8E06-1B60C8B1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645F9-87A1-4410-ACB8-AEECEDB5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098E-0969-465E-9C14-EA92294D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F179B-52B0-44E7-8091-8BEB1D98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282D0-EDC3-407A-8FA1-64598C6E1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3E326-E644-4331-89AD-91EE8EBD9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1009F-FAEC-4131-A0EE-B0432FF44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64236-A870-4869-B547-E4DCCA0E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CC710-DF0C-42DF-8165-B2CF549D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71077-DEE5-48A7-B625-0A187679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818CD-4C1D-4611-8E38-86E35226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8EB61-A171-4008-B9DF-91EA84F2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9A975-5E4F-4AF4-8222-12ED5629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CDAB-AA6D-453D-8473-4C1C08D3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5B136-7739-4CB7-ADD6-F1B9B08B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FA276-A88F-4C84-87D5-1B64D519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D0C4C-C93F-44AC-B906-B98E4511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46710-51C7-424B-BBC1-EBC60BB28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C1B9A-5F9E-46BE-960B-C475DD71D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F39F5-3B03-471A-8ABB-E35AD51C4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31E2E-233A-403A-B126-376FFB07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3F8A4-67C3-4365-9F38-9C6F97BF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EBDA3-5978-4C07-B517-1253026D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26F2E-0C32-4C85-B841-ECCF9362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C457-11CF-425A-B0EF-27A0EFD4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4EDAD-AA00-4F64-9C6C-B54D07C4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3E4FB-B1C6-4B53-9C9F-C6B147F0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21DC8-0B8C-47EC-9A9B-03BD5C7D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786E6-73FC-4878-A10A-8EACDC5B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93A29-EC68-479B-BB52-0AA0E074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6C267-15F1-42B2-A51B-A1A9E8358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7D0C8-A1B5-4FB1-A231-A71E746BF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C966-730E-435E-9136-A2E148083DA7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29AE-AD93-41BC-B971-5E10E6EF1F03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F376-C7FE-4505-85F3-BDEEDA25834B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6AF5-9CA7-4CE4-8974-DAFBD5002661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5A9A-5F50-498B-A0B3-0DC7CE6FFFEF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F4B4-FB4C-46E1-8357-280857E02E49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5FEF-EA74-4055-8AF7-60B7B338ABC3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9C31-2994-4CC9-893F-B2CC5E81B154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Ch.12 Warm up 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6840" y="1219320"/>
            <a:ext cx="85345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fine: genome, gametes, chromatin, chromosome, centromere, kinetochore, checkpoint, Cdk, MPF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is the longest part of the cell cycle? Why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f the diploid number is 46, the haploid number i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Bookman Old Style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Bookman Old Style"/>
              </a:rPr>
              <a:t>Cell Cycle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: life of a cell from its formation until it divid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447560"/>
            <a:ext cx="4114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Gill Sans MT"/>
              </a:rPr>
              <a:t>Functions of Cell Divisio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Reproduction, Growth and Tissue Repai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2" name="Picture 6" descr="12_02_CellDivFunctions-L.jpg"/>
          <p:cNvPicPr/>
          <p:nvPr/>
        </p:nvPicPr>
        <p:blipFill>
          <a:blip r:embed="rId1"/>
          <a:stretch/>
        </p:blipFill>
        <p:spPr>
          <a:xfrm>
            <a:off x="4724280" y="1676520"/>
            <a:ext cx="4219560" cy="45831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7" descr="12_01ChromosomesCellDiv-L.jpg"/>
          <p:cNvPicPr/>
          <p:nvPr/>
        </p:nvPicPr>
        <p:blipFill>
          <a:blip r:embed="rId2"/>
          <a:stretch/>
        </p:blipFill>
        <p:spPr>
          <a:xfrm>
            <a:off x="609480" y="3505320"/>
            <a:ext cx="373392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Bookman Old Style"/>
              </a:rPr>
              <a:t>Genome</a:t>
            </a:r>
            <a:r>
              <a:rPr b="0" lang="en-US" sz="32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= all of a cell’s genetic info (DNA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30a0"/>
                </a:solidFill>
                <a:uFillTx/>
                <a:latin typeface="Gill Sans MT"/>
              </a:rPr>
              <a:t>Prokaryote</a:t>
            </a: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: single, circular chromosome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30a0"/>
                </a:solidFill>
                <a:uFillTx/>
                <a:latin typeface="Gill Sans MT"/>
              </a:rPr>
              <a:t>Eukaryote</a:t>
            </a: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: more than one linear chromosomes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g. Human:46 chromosomes, mouse: 40, fruit fly: 8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</p:txBody>
      </p:sp>
      <p:pic>
        <p:nvPicPr>
          <p:cNvPr id="376" name="Picture 4" descr="12_03EukChromosomes-L.jpg"/>
          <p:cNvPicPr/>
          <p:nvPr/>
        </p:nvPicPr>
        <p:blipFill>
          <a:blip r:embed="rId1"/>
          <a:stretch/>
        </p:blipFill>
        <p:spPr>
          <a:xfrm>
            <a:off x="2590920" y="3200400"/>
            <a:ext cx="426708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Bookman Old Style"/>
              </a:rPr>
              <a:t>Each chromosome must be duplicated before cell division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2189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Duplicated chromosom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= 2 </a:t>
            </a:r>
            <a:r>
              <a:rPr b="0" lang="en-US" sz="2800" spc="-1" strike="noStrike">
                <a:solidFill>
                  <a:srgbClr val="7030a0"/>
                </a:solidFill>
                <a:latin typeface="Gill Sans MT"/>
              </a:rPr>
              <a:t>sister chromatids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ttached by a </a:t>
            </a:r>
            <a:r>
              <a:rPr b="0" lang="en-US" sz="2800" spc="-1" strike="noStrike">
                <a:solidFill>
                  <a:srgbClr val="7030a0"/>
                </a:solidFill>
                <a:latin typeface="Gill Sans MT"/>
              </a:rPr>
              <a:t>centromer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9" name="Picture 8" descr="12_05ChromoDupliDist_3-L.jpg"/>
          <p:cNvPicPr/>
          <p:nvPr/>
        </p:nvPicPr>
        <p:blipFill>
          <a:blip r:embed="rId1"/>
          <a:stretch/>
        </p:blipFill>
        <p:spPr>
          <a:xfrm>
            <a:off x="4876920" y="2133720"/>
            <a:ext cx="3932280" cy="45115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1" descr="12_04CondensedChromosome-L.jpg"/>
          <p:cNvPicPr/>
          <p:nvPr/>
        </p:nvPicPr>
        <p:blipFill>
          <a:blip r:embed="rId2"/>
          <a:stretch/>
        </p:blipFill>
        <p:spPr>
          <a:xfrm>
            <a:off x="152280" y="3403440"/>
            <a:ext cx="452124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ill Sans MT"/>
              </a:rPr>
              <a:t>Somatic Cel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ill Sans MT"/>
              </a:rPr>
              <a:t>Gamet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dy cel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ploid (2n): 2 of each type of chromosom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vide by mitosi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umans: 2n = 46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64832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x cells (sperm/egg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aploid (n): 1 of each type of chromosom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vide by meiosi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umans: n = 2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Phases of the Cell Cycle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87" name="Picture 10" descr="12_06CellCycle-L.jpg"/>
          <p:cNvPicPr/>
          <p:nvPr/>
        </p:nvPicPr>
        <p:blipFill>
          <a:blip r:embed="rId1"/>
          <a:stretch/>
        </p:blipFill>
        <p:spPr>
          <a:xfrm>
            <a:off x="1054080" y="1295280"/>
            <a:ext cx="7099200" cy="49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Phases of the Cell Cycle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mitotic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hase alternates with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interphas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G</a:t>
            </a:r>
            <a:r>
              <a:rPr b="0" lang="en-US" sz="2800" spc="-1" strike="noStrike" baseline="-25000">
                <a:solidFill>
                  <a:srgbClr val="464653"/>
                </a:solidFill>
                <a:latin typeface="Gill Sans MT"/>
              </a:rPr>
              <a:t>1</a:t>
            </a: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464653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 S </a:t>
            </a:r>
            <a:r>
              <a:rPr b="0" lang="en-US" sz="2800" spc="-1" strike="noStrike">
                <a:solidFill>
                  <a:srgbClr val="464653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 G</a:t>
            </a:r>
            <a:r>
              <a:rPr b="0" lang="en-US" sz="2800" spc="-1" strike="noStrike" baseline="-25000">
                <a:solidFill>
                  <a:srgbClr val="464653"/>
                </a:solidFill>
                <a:latin typeface="Gill Sans MT"/>
              </a:rPr>
              <a:t>2</a:t>
            </a: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464653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 mitosis </a:t>
            </a:r>
            <a:r>
              <a:rPr b="0" lang="en-US" sz="2800" spc="-1" strike="noStrike">
                <a:solidFill>
                  <a:srgbClr val="464653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 cytokinesis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Interphas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90% of cell cycl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G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Gill Sans MT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Phase</a:t>
            </a: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: cell grows and carries out normal functions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S Phase</a:t>
            </a: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: duplicates chromosomes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G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Gill Sans MT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Phase</a:t>
            </a: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: prepares for cell division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M Phas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mitotic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Mitosis</a:t>
            </a: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: nucleus divides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Cytokinesis</a:t>
            </a: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: cytoplasm divides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Bookman Old Style"/>
              </a:rPr>
              <a:t>Mitosis</a:t>
            </a:r>
            <a:r>
              <a:rPr b="0" lang="en-US" sz="3200" spc="-1" strike="noStrike">
                <a:solidFill>
                  <a:srgbClr val="0000ff"/>
                </a:solidFill>
                <a:latin typeface="Bookman Old Style"/>
              </a:rPr>
              <a:t>: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Prophase </a:t>
            </a:r>
            <a:r>
              <a:rPr b="0" lang="en-US" sz="3200" spc="-1" strike="noStrike">
                <a:solidFill>
                  <a:srgbClr val="464653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Metaphase </a:t>
            </a:r>
            <a:r>
              <a:rPr b="0" lang="en-US" sz="3200" spc="-1" strike="noStrike">
                <a:solidFill>
                  <a:srgbClr val="464653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Anaphase </a:t>
            </a:r>
            <a:r>
              <a:rPr b="0" lang="en-US" sz="3200" spc="-1" strike="noStrike">
                <a:solidFill>
                  <a:srgbClr val="464653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Telophas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91" name="Picture 3" descr="12_07_MitosisAnimalCell-L.jpg"/>
          <p:cNvPicPr/>
          <p:nvPr/>
        </p:nvPicPr>
        <p:blipFill>
          <a:blip r:embed="rId1"/>
          <a:stretch/>
        </p:blipFill>
        <p:spPr>
          <a:xfrm>
            <a:off x="380880" y="2743200"/>
            <a:ext cx="854712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Bookman Old Style"/>
              </a:rPr>
              <a:t>Mitosis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11426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Continuous process with observable structural featur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Chromosomes become visible (prophase)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Alignment at the equator (metaphase)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Separation of sister chromatids (anaphase)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Form two daughter cells (telophase &amp; cytokinesis)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</p:txBody>
      </p:sp>
      <p:pic>
        <p:nvPicPr>
          <p:cNvPr id="394" name="Picture 3" descr="12_07_MitosisAnimalCell-L.jpg"/>
          <p:cNvPicPr/>
          <p:nvPr/>
        </p:nvPicPr>
        <p:blipFill>
          <a:blip r:embed="rId1"/>
          <a:stretch/>
        </p:blipFill>
        <p:spPr>
          <a:xfrm>
            <a:off x="1523880" y="4191120"/>
            <a:ext cx="6172200" cy="243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762120" y="392040"/>
            <a:ext cx="746748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Arial"/>
              </a:rPr>
              <a:t>Prophase &amp; Prometaph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1" descr="12_07aMitosisAnimalCell-L.jpg"/>
          <p:cNvPicPr/>
          <p:nvPr/>
        </p:nvPicPr>
        <p:blipFill>
          <a:blip r:embed="rId1"/>
          <a:stretch/>
        </p:blipFill>
        <p:spPr>
          <a:xfrm>
            <a:off x="304920" y="1447920"/>
            <a:ext cx="8547120" cy="45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762120" y="392040"/>
            <a:ext cx="746748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Arial"/>
              </a:rPr>
              <a:t>Metaphase &amp; Anaph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2" descr="12_07bMitosisAnimalCell-L.jpg"/>
          <p:cNvPicPr/>
          <p:nvPr/>
        </p:nvPicPr>
        <p:blipFill>
          <a:blip r:embed="rId1"/>
          <a:srcRect l="0" t="0" r="33988" b="0"/>
          <a:stretch/>
        </p:blipFill>
        <p:spPr>
          <a:xfrm>
            <a:off x="1447920" y="1447920"/>
            <a:ext cx="626256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Ch. 12 Warm up 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t the end of mitosis and cytokinesis, how do daughter cells compare with their parent cell when it was in 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93560" indent="-4935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93560" indent="-4935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cell’s DNA was measured at 5 picograms. DNA levels range from 3-6 pgms in the cell cycle .  What stage of the cell cycle is this cell in. How do you know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93560" indent="-4935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93560" indent="-4935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t metaphase, if the haploid number is 3, how many chromatids does this cell have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6840" y="1219320"/>
            <a:ext cx="84582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Gill Sans MT"/>
              </a:rPr>
              <a:t>Cytokinesi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Cytoplasm of cell divided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Gill Sans MT"/>
              </a:rPr>
              <a:t>Animal Cells</a:t>
            </a: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: cleavage furrow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Gill Sans MT"/>
              </a:rPr>
              <a:t>Plant Cells</a:t>
            </a: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: cell plate forms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</p:txBody>
      </p:sp>
      <p:pic>
        <p:nvPicPr>
          <p:cNvPr id="401" name="Picture 2" descr="12_07bMitosisAnimalCell-L.jpg"/>
          <p:cNvPicPr/>
          <p:nvPr/>
        </p:nvPicPr>
        <p:blipFill>
          <a:blip r:embed="rId1"/>
          <a:srcRect l="65814" t="0" r="0" b="0"/>
          <a:stretch/>
        </p:blipFill>
        <p:spPr>
          <a:xfrm>
            <a:off x="5638680" y="609480"/>
            <a:ext cx="350532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Bookman Old Style"/>
              </a:rPr>
              <a:t>Cytokinesis in animal vs. plant cell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04" name="Picture 3" descr="12_10_Cytokinesis-L.jpg"/>
          <p:cNvPicPr/>
          <p:nvPr/>
        </p:nvPicPr>
        <p:blipFill>
          <a:blip r:embed="rId1"/>
          <a:stretch/>
        </p:blipFill>
        <p:spPr>
          <a:xfrm>
            <a:off x="304920" y="1219320"/>
            <a:ext cx="854712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3818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nimal Cell Division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06" name="Picture 1" descr="12_07cMitosisAnimalCell-L.jpg"/>
          <p:cNvPicPr/>
          <p:nvPr/>
        </p:nvPicPr>
        <p:blipFill>
          <a:blip r:embed="rId1"/>
          <a:stretch/>
        </p:blipFill>
        <p:spPr>
          <a:xfrm>
            <a:off x="304920" y="762120"/>
            <a:ext cx="8547120" cy="31701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12_07dMitosisAnimalCell-L.jpg"/>
          <p:cNvPicPr/>
          <p:nvPr/>
        </p:nvPicPr>
        <p:blipFill>
          <a:blip r:embed="rId2"/>
          <a:stretch/>
        </p:blipFill>
        <p:spPr>
          <a:xfrm>
            <a:off x="291960" y="3733920"/>
            <a:ext cx="8547120" cy="306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Plant Cell Division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09" name="Picture 1" descr="12_11_MitosisPlantCell-L.jpg"/>
          <p:cNvPicPr/>
          <p:nvPr/>
        </p:nvPicPr>
        <p:blipFill>
          <a:blip r:embed="rId1"/>
          <a:stretch/>
        </p:blipFill>
        <p:spPr>
          <a:xfrm>
            <a:off x="291960" y="1689120"/>
            <a:ext cx="8547120" cy="347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Arial"/>
              </a:rPr>
              <a:t>Which phases of the cell cycle can you identify?</a:t>
            </a:r>
            <a:endParaRPr b="0" lang="en-US" sz="30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11" name="Picture 4" descr=""/>
          <p:cNvPicPr/>
          <p:nvPr/>
        </p:nvPicPr>
        <p:blipFill>
          <a:blip r:embed="rId1"/>
          <a:stretch/>
        </p:blipFill>
        <p:spPr>
          <a:xfrm>
            <a:off x="990720" y="1325520"/>
            <a:ext cx="7173720" cy="538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During anaphas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04920" y="1387440"/>
            <a:ext cx="4114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hromosomes walked to poles by motor protei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Kinetochore microtubules shorten at ends as they depolymeriz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4" name="Picture 6" descr="12_09_AnaphaseKinetochore-L.jpg"/>
          <p:cNvPicPr/>
          <p:nvPr/>
        </p:nvPicPr>
        <p:blipFill>
          <a:blip r:embed="rId1"/>
          <a:stretch/>
        </p:blipFill>
        <p:spPr>
          <a:xfrm>
            <a:off x="4419720" y="152280"/>
            <a:ext cx="4406760" cy="658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Bookman Old Style"/>
              </a:rPr>
              <a:t>Bacterial cells divide by </a:t>
            </a:r>
            <a:r>
              <a:rPr b="1" lang="en-US" sz="2800" spc="-1" strike="noStrike">
                <a:solidFill>
                  <a:srgbClr val="ff0000"/>
                </a:solidFill>
                <a:latin typeface="Bookman Old Style"/>
              </a:rPr>
              <a:t>Binary Fission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16" name="Picture 3" descr="12_12BinaryFission_4-L.jpg"/>
          <p:cNvPicPr/>
          <p:nvPr/>
        </p:nvPicPr>
        <p:blipFill>
          <a:blip r:embed="rId1"/>
          <a:stretch/>
        </p:blipFill>
        <p:spPr>
          <a:xfrm>
            <a:off x="1371600" y="1371600"/>
            <a:ext cx="635472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Cell Cycle Control System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Gill Sans MT"/>
              </a:rPr>
              <a:t>Checkpoin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= control point where </a:t>
            </a:r>
            <a:r>
              <a:rPr b="1" lang="en-US" sz="2800" spc="-1" strike="noStrike">
                <a:solidFill>
                  <a:srgbClr val="ff0000"/>
                </a:solidFill>
                <a:latin typeface="Gill Sans MT"/>
              </a:rPr>
              <a:t>stop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/</a:t>
            </a:r>
            <a:r>
              <a:rPr b="1" lang="en-US" sz="2800" spc="-1" strike="noStrike">
                <a:solidFill>
                  <a:srgbClr val="00b050"/>
                </a:solidFill>
                <a:latin typeface="Gill Sans MT"/>
              </a:rPr>
              <a:t>go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ignals regulate the cell cyc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9" name="Picture 3" descr="12_15MechAnalogyCellCyc-L.jpg"/>
          <p:cNvPicPr/>
          <p:nvPr/>
        </p:nvPicPr>
        <p:blipFill>
          <a:blip r:embed="rId1"/>
          <a:stretch/>
        </p:blipFill>
        <p:spPr>
          <a:xfrm>
            <a:off x="1981080" y="2362320"/>
            <a:ext cx="500544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Major Checkpoints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228240" y="1219320"/>
            <a:ext cx="88390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-4629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G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Gill Sans MT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checkpoint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Most important!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09920" indent="-4629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53"/>
                </a:solidFill>
                <a:latin typeface="Gill Sans MT"/>
              </a:rPr>
              <a:t>Controlled by cell size, growth factors, environment</a:t>
            </a: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  <a:p>
            <a:pPr lvl="1" marL="709920" indent="-4629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464653"/>
                </a:solidFill>
                <a:latin typeface="Gill Sans MT"/>
              </a:rPr>
              <a:t>“</a:t>
            </a:r>
            <a:r>
              <a:rPr b="0" lang="en-US" sz="2600" spc="-1" strike="noStrike">
                <a:solidFill>
                  <a:srgbClr val="464653"/>
                </a:solidFill>
                <a:latin typeface="Gill Sans MT"/>
              </a:rPr>
              <a:t>Go</a:t>
            </a:r>
            <a:r>
              <a:rPr b="0" lang="ja-JP" sz="2600" spc="-1" strike="noStrike">
                <a:solidFill>
                  <a:srgbClr val="464653"/>
                </a:solidFill>
                <a:latin typeface="Gill Sans MT"/>
              </a:rPr>
              <a:t>”</a:t>
            </a:r>
            <a:r>
              <a:rPr b="0" lang="en-US" sz="26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464653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464653"/>
                </a:solidFill>
                <a:latin typeface="Gill Sans MT"/>
              </a:rPr>
              <a:t> completes whole cell cycle</a:t>
            </a: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  <a:p>
            <a:pPr lvl="1" marL="709920" indent="-4629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464653"/>
                </a:solidFill>
                <a:latin typeface="Gill Sans MT"/>
              </a:rPr>
              <a:t>“</a:t>
            </a:r>
            <a:r>
              <a:rPr b="0" lang="en-US" sz="2600" spc="-1" strike="noStrike">
                <a:solidFill>
                  <a:srgbClr val="464653"/>
                </a:solidFill>
                <a:latin typeface="Gill Sans MT"/>
              </a:rPr>
              <a:t>Stop</a:t>
            </a:r>
            <a:r>
              <a:rPr b="0" lang="ja-JP" sz="2600" spc="-1" strike="noStrike">
                <a:solidFill>
                  <a:srgbClr val="464653"/>
                </a:solidFill>
                <a:latin typeface="Gill Sans MT"/>
              </a:rPr>
              <a:t>”</a:t>
            </a:r>
            <a:r>
              <a:rPr b="0" lang="en-US" sz="26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464653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464653"/>
                </a:solidFill>
                <a:latin typeface="Gill Sans MT"/>
              </a:rPr>
              <a:t> cell enters nondividing state (G</a:t>
            </a:r>
            <a:r>
              <a:rPr b="0" lang="en-US" sz="2600" spc="-1" strike="noStrike" baseline="-25000">
                <a:solidFill>
                  <a:srgbClr val="464653"/>
                </a:solidFill>
                <a:latin typeface="Gill Sans MT"/>
              </a:rPr>
              <a:t>0</a:t>
            </a:r>
            <a:r>
              <a:rPr b="0" lang="en-US" sz="2600" spc="-1" strike="noStrike">
                <a:solidFill>
                  <a:srgbClr val="464653"/>
                </a:solidFill>
                <a:latin typeface="Gill Sans MT"/>
              </a:rPr>
              <a:t> Phase)</a:t>
            </a: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  <a:p>
            <a:pPr lvl="2" marL="957240" indent="-46296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rve, muscle cells stay at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; liver cells called back from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62960" indent="-4629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G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Gill Sans MT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checkpoi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957240" indent="-46296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trolled by DNA replication completion, DNA mutations, cell siz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62960" indent="-4629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M-spindle (Metaphase) checkpoi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09920" indent="-462960">
              <a:spcBef>
                <a:spcPts val="499"/>
              </a:spcBef>
              <a:buClr>
                <a:srgbClr val="9fb8cd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heck spindle fiber (microtubule) attachment to chromosomes at kinetochores (anchor sites)</a:t>
            </a: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3" descr="12_16G1Checkpoint-L.jpg"/>
          <p:cNvPicPr/>
          <p:nvPr/>
        </p:nvPicPr>
        <p:blipFill>
          <a:blip r:embed="rId1"/>
          <a:stretch/>
        </p:blipFill>
        <p:spPr>
          <a:xfrm>
            <a:off x="304920" y="1371600"/>
            <a:ext cx="8547120" cy="47005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Bookman Old Style"/>
              </a:rPr>
              <a:t>G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Bookman Old Style"/>
              </a:rPr>
              <a:t>1</a:t>
            </a:r>
            <a:r>
              <a:rPr b="0" lang="en-US" sz="3600" spc="-1" strike="noStrike">
                <a:solidFill>
                  <a:srgbClr val="ff0000"/>
                </a:solidFill>
                <a:latin typeface="Bookman Old Style"/>
              </a:rPr>
              <a:t> Checkpoint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Ch. 12 Warm up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is the correct phase of the cell cycle/mitosis for the following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ost cells that no longer divide or rarely divide are in this phas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ster chromatids separate and move apar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itotic spindle begins to for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ell plate or cleavage furrow for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romosomes replica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romosomes line up on equatorial pla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uclear membrane for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romosomes become visib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man Old Style"/>
              </a:rPr>
              <a:t>M-spindle Checkpoint: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Bookman Old Style"/>
              </a:rPr>
              <a:t>Mitotic spindle at metaphas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25" name="Picture 5" descr="12_08_MitoticSpindle-L.jpg"/>
          <p:cNvPicPr/>
          <p:nvPr/>
        </p:nvPicPr>
        <p:blipFill>
          <a:blip r:embed="rId1"/>
          <a:stretch/>
        </p:blipFill>
        <p:spPr>
          <a:xfrm>
            <a:off x="977760" y="1332000"/>
            <a:ext cx="7328160" cy="4840200"/>
          </a:xfrm>
          <a:prstGeom prst="rect">
            <a:avLst/>
          </a:prstGeom>
          <a:ln w="0">
            <a:noFill/>
          </a:ln>
        </p:spPr>
      </p:pic>
      <p:grpSp>
        <p:nvGrpSpPr>
          <p:cNvPr id="426" name="Group 5"/>
          <p:cNvGrpSpPr/>
          <p:nvPr/>
        </p:nvGrpSpPr>
        <p:grpSpPr>
          <a:xfrm>
            <a:off x="4800600" y="4419720"/>
            <a:ext cx="4114800" cy="2264040"/>
            <a:chOff x="4800600" y="4419720"/>
            <a:chExt cx="4114800" cy="2264040"/>
          </a:xfrm>
        </p:grpSpPr>
        <p:grpSp>
          <p:nvGrpSpPr>
            <p:cNvPr id="427" name="Left Arrow 6"/>
            <p:cNvGrpSpPr/>
            <p:nvPr/>
          </p:nvGrpSpPr>
          <p:grpSpPr>
            <a:xfrm>
              <a:off x="4800600" y="4620600"/>
              <a:ext cx="1186560" cy="829080"/>
              <a:chOff x="4800600" y="4620600"/>
              <a:chExt cx="1186560" cy="829080"/>
            </a:xfrm>
          </p:grpSpPr>
          <p:pic>
            <p:nvPicPr>
              <p:cNvPr id="428" name="Left Arrow 6" descr=""/>
              <p:cNvPicPr/>
              <p:nvPr/>
            </p:nvPicPr>
            <p:blipFill>
              <a:blip r:embed="rId2"/>
              <a:stretch/>
            </p:blipFill>
            <p:spPr>
              <a:xfrm>
                <a:off x="4800600" y="4620600"/>
                <a:ext cx="118656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"/>
              <p:cNvSpPr/>
              <p:nvPr/>
            </p:nvSpPr>
            <p:spPr>
              <a:xfrm>
                <a:off x="5037840" y="4819320"/>
                <a:ext cx="8802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TextBox 4"/>
            <p:cNvSpPr/>
            <p:nvPr/>
          </p:nvSpPr>
          <p:spPr>
            <a:xfrm>
              <a:off x="5843520" y="4419720"/>
              <a:ext cx="3071880" cy="2264040"/>
            </a:xfrm>
            <a:prstGeom prst="roundRect">
              <a:avLst>
                <a:gd name="adj" fmla="val 25750"/>
              </a:avLst>
            </a:prstGeom>
            <a:gradFill rotWithShape="0">
              <a:gsLst>
                <a:gs pos="0">
                  <a:srgbClr val="eccec6"/>
                </a:gs>
                <a:gs pos="100000">
                  <a:srgbClr val="eccec6"/>
                </a:gs>
              </a:gsLst>
              <a:lin ang="11700000"/>
            </a:gradFill>
            <a:ln w="38160">
              <a:solidFill>
                <a:srgbClr val="b88472"/>
              </a:solidFill>
              <a:miter/>
            </a:ln>
            <a:effectLst>
              <a:outerShdw dist="12600" dir="54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Gill Sans MT"/>
                </a:rPr>
                <a:t>Kinetochore</a:t>
              </a: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 = proteins associated with DNA at centrom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5" descr="12_17_G2Checkpoint-L.jpg"/>
          <p:cNvPicPr/>
          <p:nvPr/>
        </p:nvPicPr>
        <p:blipFill>
          <a:blip r:embed="rId1"/>
          <a:srcRect l="0" t="0" r="0" b="59356"/>
          <a:stretch/>
        </p:blipFill>
        <p:spPr>
          <a:xfrm>
            <a:off x="1828800" y="1219320"/>
            <a:ext cx="6154560" cy="330984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Bookman Old Style"/>
              </a:rPr>
              <a:t>Internal Regulatory Molecules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Rectangle 4"/>
          <p:cNvSpPr/>
          <p:nvPr/>
        </p:nvSpPr>
        <p:spPr>
          <a:xfrm>
            <a:off x="380880" y="434340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Kinase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yclin-dependent kinase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Cd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: protein enzyme controls cell cycle; active when connected to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yc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Cycli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roteins which attach to kinases to activate them; levels fluctuate in the cell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Bookman Old Style"/>
              </a:rPr>
              <a:t>Internal Regulatory Molecules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Rectangle 4"/>
          <p:cNvSpPr/>
          <p:nvPr/>
        </p:nvSpPr>
        <p:spPr>
          <a:xfrm>
            <a:off x="304920" y="1219320"/>
            <a:ext cx="8458200" cy="13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7388c"/>
                </a:solidFill>
                <a:uFillTx/>
                <a:latin typeface="Arial"/>
              </a:rPr>
              <a:t>MPF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maturation-promoting 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cific </a:t>
            </a:r>
            <a:r>
              <a:rPr b="1" lang="en-US" sz="2600" spc="-1" strike="noStrike">
                <a:solidFill>
                  <a:srgbClr val="a7388c"/>
                </a:solidFill>
                <a:latin typeface="Arial"/>
                <a:ea typeface="ＭＳ Ｐゴシック"/>
              </a:rPr>
              <a:t>cyclin-Cdk complex</a:t>
            </a:r>
            <a:r>
              <a:rPr b="0" lang="en-US" sz="2600" spc="-1" strike="noStrike">
                <a:solidFill>
                  <a:srgbClr val="a7388c"/>
                </a:solidFill>
                <a:latin typeface="Arial"/>
                <a:ea typeface="ＭＳ Ｐゴシック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ich allows cells to pass 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nd go to M ph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5" descr="12_17_G2Checkpoint-L.jpg"/>
          <p:cNvPicPr/>
          <p:nvPr/>
        </p:nvPicPr>
        <p:blipFill>
          <a:blip r:embed="rId1"/>
          <a:srcRect l="0" t="38014" r="0" b="0"/>
          <a:stretch/>
        </p:blipFill>
        <p:spPr>
          <a:xfrm>
            <a:off x="2286000" y="2514600"/>
            <a:ext cx="495468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Bookman Old Style"/>
              </a:rPr>
              <a:t>External Regulatory Factors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38" name="Picture 5" descr="12_19_CellDivInhibition-L.jpg"/>
          <p:cNvPicPr/>
          <p:nvPr/>
        </p:nvPicPr>
        <p:blipFill>
          <a:blip r:embed="rId1"/>
          <a:stretch/>
        </p:blipFill>
        <p:spPr>
          <a:xfrm>
            <a:off x="304920" y="1295280"/>
            <a:ext cx="854712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57200" y="1294920"/>
            <a:ext cx="830592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Growth Factor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proteins released by other cells to stimulate cell divis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Density-Dependent Inhibition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owded cells normally stop dividing; cell-surface protein binds to adjoining cell to inhibit growt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Anchorage Dependence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ells must be attached to another cell or ECM to divid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Bookman Old Style"/>
              </a:rPr>
              <a:t>External Regulatory Factors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Bookman Old Style"/>
              </a:rPr>
              <a:t>Cancer Cells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7200" y="121932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70c0"/>
                </a:solidFill>
                <a:uFillTx/>
                <a:latin typeface="Gill Sans MT"/>
              </a:rPr>
              <a:t>Cancer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 disorder in which cells lose the ability to control growth by not responding to regulatio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ultistep process of about 5-7 genetic changes (for a human) for a cell to transfor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oses anchorage dependency and density-dependency regul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43" name="Group 9"/>
          <p:cNvGrpSpPr/>
          <p:nvPr/>
        </p:nvGrpSpPr>
        <p:grpSpPr>
          <a:xfrm>
            <a:off x="1600200" y="3983040"/>
            <a:ext cx="6464160" cy="2435760"/>
            <a:chOff x="1600200" y="3983040"/>
            <a:chExt cx="6464160" cy="2435760"/>
          </a:xfrm>
        </p:grpSpPr>
        <p:pic>
          <p:nvPicPr>
            <p:cNvPr id="444" name="Picture 5" descr="12_19aCellDivInhibition-L.jpg"/>
            <p:cNvPicPr/>
            <p:nvPr/>
          </p:nvPicPr>
          <p:blipFill>
            <a:blip r:embed="rId1"/>
            <a:srcRect l="0" t="0" r="0" b="25521"/>
            <a:stretch/>
          </p:blipFill>
          <p:spPr>
            <a:xfrm>
              <a:off x="1600200" y="4016880"/>
              <a:ext cx="2971440" cy="200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Picture 6" descr="12_19bCellDivInhibition-L.jpg"/>
            <p:cNvPicPr/>
            <p:nvPr/>
          </p:nvPicPr>
          <p:blipFill>
            <a:blip r:embed="rId2"/>
            <a:srcRect l="0" t="0" r="0" b="24511"/>
            <a:stretch/>
          </p:blipFill>
          <p:spPr>
            <a:xfrm>
              <a:off x="4876560" y="3983040"/>
              <a:ext cx="3187800" cy="21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TextBox 7"/>
            <p:cNvSpPr/>
            <p:nvPr/>
          </p:nvSpPr>
          <p:spPr>
            <a:xfrm>
              <a:off x="1600200" y="6019920"/>
              <a:ext cx="205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ormal Ce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Box 8"/>
            <p:cNvSpPr/>
            <p:nvPr/>
          </p:nvSpPr>
          <p:spPr>
            <a:xfrm>
              <a:off x="4876560" y="6019920"/>
              <a:ext cx="205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ancer Ce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3" descr="12_20MalignantTumor-L.jpg"/>
          <p:cNvPicPr/>
          <p:nvPr/>
        </p:nvPicPr>
        <p:blipFill>
          <a:blip r:embed="rId1"/>
          <a:stretch/>
        </p:blipFill>
        <p:spPr>
          <a:xfrm>
            <a:off x="1828800" y="3200400"/>
            <a:ext cx="6121440" cy="344484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Tumors = mass of abnormal cell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Benign tumor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 lump of cells remain at original si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Malignant tumor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 invasive - impairs functions of 1+ organs (called cance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Metastas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 cells separate from tumor and travel to other parts of bod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7" descr="cancer3.jpg"/>
          <p:cNvPicPr/>
          <p:nvPr/>
        </p:nvPicPr>
        <p:blipFill>
          <a:blip r:embed="rId1"/>
          <a:stretch/>
        </p:blipFill>
        <p:spPr>
          <a:xfrm>
            <a:off x="6146640" y="4191120"/>
            <a:ext cx="2845080" cy="266688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70c0"/>
                </a:solidFill>
                <a:latin typeface="Bookman Old Style"/>
              </a:rPr>
              <a:t>Cancer Prevention</a:t>
            </a:r>
            <a:br>
              <a:rPr sz="3600"/>
            </a:b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yone can get cancer but there are ways to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minimiz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risk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on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 smoke, legal or illegal (includes hookahs, chew,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Gill Sans MT"/>
              </a:rPr>
              <a:t>n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hand smok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se sun protec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ercise and keep weight at ideal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at 5-7 servings of fruit and veggies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a da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se screening/preventative measures-breast/testicle/mole check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actice abstinence or use condom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Vaccines (eg. HPV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Ch. 12 Warm up 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scribe the difference between plant and animal cell divisio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easurements of the DNA amount per nucleus were taken.  DNA levels ranged from 3-6 picograms per nucleus, what stage of the cell cycle are these cells in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063800" indent="-514440">
              <a:spcBef>
                <a:spcPts val="499"/>
              </a:spcBef>
              <a:buClr>
                <a:srgbClr val="bcbcbc"/>
              </a:buClr>
              <a:buSzPct val="76000"/>
              <a:buFont typeface="Gill Sans MT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e nucleus has 3 pgr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063800" indent="-514440">
              <a:spcBef>
                <a:spcPts val="499"/>
              </a:spcBef>
              <a:buClr>
                <a:srgbClr val="bcbcbc"/>
              </a:buClr>
              <a:buSzPct val="76000"/>
              <a:buFont typeface="Gill Sans MT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e with 6 pgr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063800" indent="-514440">
              <a:spcBef>
                <a:spcPts val="499"/>
              </a:spcBef>
              <a:buClr>
                <a:srgbClr val="bcbcbc"/>
              </a:buClr>
              <a:buSzPct val="76000"/>
              <a:buFont typeface="Gill Sans MT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5 pgr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scribe binary fission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Bookman Old Style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Ch. 12 Warm up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w do we know the cell uses chemical signal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ummarize the cell control system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mpare a cancer cell to a normal cell.  What goes wrong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Ch. 13 Warm up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mpare sexual to asexual reproductio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mpare/contrast mitosis to meiosi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scribe the events of meiosi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Ch. 13 Warm up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scribe and compare the 3 sexual life cyc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w does random assortment, crossing over and random fertilization contribute to genetic variation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fine:  locus, karyotype, alternation of generations, synapsis, tetrad, chiasmat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19320" y="2895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hapter 12: The Cell Cycle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94920" y="426672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What you must know: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structure of the duplicated chromosom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cell cycle and stages of mitosi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role of kinases and cyclin in the regulation of the cell cycl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19:12:23Z</dcterms:created>
  <dc:creator>Jackie</dc:creator>
  <dc:description/>
  <dc:language>en-US</dc:language>
  <cp:lastModifiedBy>local</cp:lastModifiedBy>
  <dcterms:modified xsi:type="dcterms:W3CDTF">2012-10-26T15:07:34Z</dcterms:modified>
  <cp:revision>83</cp:revision>
  <dc:subject/>
  <dc:title>Chapter 12-13 THE CELL CYCLE/MEIOSIS and SEXUAL LIFE CYLES</dc:title>
</cp:coreProperties>
</file>